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400C8-499A-4B43-90E0-1B7C1DDC8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617AB-7B3D-48E5-870A-B9BAD0948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7DB40-CACC-40B6-A64E-3F6B61528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B80BF-BB50-4435-AD25-923A2D00D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65B40-CAC7-4D06-85AC-2DE5E8FA4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F9520-281F-48C6-818E-04611CF60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15EEF-A674-4A63-8019-86BD9FA7C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C4DE2-2F69-4CC5-B90A-FBB783692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60511-EF6C-4186-BC07-5F5479ED5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1333F-E7F8-4643-8F16-3EB278E3E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252EA-65B8-4A3E-BBA3-F843781AF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976E7-19AE-4085-B294-EA26CAAAA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6D1A9-0F35-4375-B527-7E7CA0E05491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13BE7E26-4EA8-4835-8B90-E5CFAC7146E3}" type="datetime10">
              <a:rPr b="0" lang="en-US" sz="1400" spc="-1" strike="noStrike">
                <a:solidFill>
                  <a:srgbClr val="000000"/>
                </a:solidFill>
                <a:latin typeface="Arial"/>
              </a:rPr>
              <a:t>08:0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0B275-0C23-433A-A4FE-BE81BDA9DF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school.eb.com/comptons/article-197630?query=owls&amp;ct=" TargetMode="External"/><Relationship Id="rId2" Type="http://schemas.openxmlformats.org/officeDocument/2006/relationships/hyperlink" Target="http://www.carlhiaasen.com/index.shtml" TargetMode="External"/><Relationship Id="rId3" Type="http://schemas.openxmlformats.org/officeDocument/2006/relationships/hyperlink" Target="http://www.owlpages.com/owls.php?genus=Athene&amp;species=cunicularia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ibliography: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to cite a sour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lagiaris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steal the ideas or words of another and pass them off as one’s own; to commit literary thef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Sour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erials that provide information (book, encyclopedia, magazine, website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ite/cit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knowledge that you have taken information from a source by writing specific information down (like author and tit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Bibliograph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list of sources used (aka works cit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bsite Pract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EB Onlin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—some sites provide the citation for you.  Eas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Carl Hiaas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—some sites have missing information.  Omit what is missing in your ci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Burrowing owl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—some sites have what you need, but you have to search closely for 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ulture Gram (example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nnessee.”  State Grams for Kids Edi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lture Grams, 200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ulture Grams On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u.”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ultureGrams World Edi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2007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Quest Information and Learning. 8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nuary 2007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lt;http://online.culturegrams.com/secure/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ld/world_country.php?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d=7&amp;wmn=South_America&amp;cid=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5&amp;cn=Peru&gt;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al interview (example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x, Karen.  Personal Interview.  Nov. 11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05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deo (example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utterflies and Moths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Dir. James Jon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deocassette.  National Geographic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89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*Alphabetize by the first word in each citation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*All lines after the first line are indented for each citation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*EVERY line is double-spaced</a:t>
            </a:r>
            <a:br>
              <a:rPr sz="1800"/>
            </a:b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bliograp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rron, Neil.  “Vertebrates.”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Grolier’s Multimedia Encyclopedia.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D-RO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olier’s, 199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ano, Hubert.  “Extinctions.”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National Geographic.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ne 1990: 621-625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kle, Sandra.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Outside and Inside Snak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 New York: Simon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huster, 1995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llock, George.  “Elephants.” 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World Book Encyclopedia.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0 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ok (formula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thor (last name, first name).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itle of boo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ity of publication: Publisher, Year 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blic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ok (example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nor, Paul.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enjamin Franklin’s Worl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ston: Little Publishing Co., 195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cyclopedia article (formula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thor.  “Title of Article.”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ame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Encyclopedia.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i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no author is given, begin with the title of the artic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cyclopedia 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th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tle of article (bol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me of encyclop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Content Placeholder 7" descr="encyclopedia.JPG"/>
          <p:cNvPicPr/>
          <p:nvPr/>
        </p:nvPicPr>
        <p:blipFill>
          <a:blip r:embed="rId1"/>
          <a:stretch/>
        </p:blipFill>
        <p:spPr>
          <a:xfrm>
            <a:off x="4648320" y="1600200"/>
            <a:ext cx="3716280" cy="4525920"/>
          </a:xfrm>
          <a:prstGeom prst="rect">
            <a:avLst/>
          </a:prstGeom>
          <a:ln w="0">
            <a:noFill/>
          </a:ln>
        </p:spPr>
      </p:pic>
      <p:sp>
        <p:nvSpPr>
          <p:cNvPr id="52" name="Oval 5"/>
          <p:cNvSpPr/>
          <p:nvPr/>
        </p:nvSpPr>
        <p:spPr>
          <a:xfrm>
            <a:off x="4952880" y="2438280"/>
            <a:ext cx="914400" cy="3049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Oval 6"/>
          <p:cNvSpPr/>
          <p:nvPr/>
        </p:nvSpPr>
        <p:spPr>
          <a:xfrm>
            <a:off x="5181480" y="5257800"/>
            <a:ext cx="914400" cy="3049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eft Brace 7"/>
          <p:cNvSpPr/>
          <p:nvPr/>
        </p:nvSpPr>
        <p:spPr>
          <a:xfrm flipH="1">
            <a:off x="7848000" y="2438280"/>
            <a:ext cx="609480" cy="2971800"/>
          </a:xfrm>
          <a:custGeom>
            <a:avLst/>
            <a:gdLst>
              <a:gd name="textAreaLeft" fmla="*/ 389160 w 609480"/>
              <a:gd name="textAreaRight" fmla="*/ 609480 w 609480"/>
              <a:gd name="textAreaTop" fmla="*/ 15840 h 2971800"/>
              <a:gd name="textAreaBottom" fmla="*/ 2955960 h 2971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85"/>
                  <a:pt x="10800" y="369"/>
                </a:cubicBezTo>
                <a:lnTo>
                  <a:pt x="10800" y="10431"/>
                </a:lnTo>
                <a:cubicBezTo>
                  <a:pt x="10800" y="10616"/>
                  <a:pt x="5400" y="10800"/>
                  <a:pt x="0" y="10800"/>
                </a:cubicBezTo>
                <a:cubicBezTo>
                  <a:pt x="5400" y="10800"/>
                  <a:pt x="10800" y="10985"/>
                  <a:pt x="10800" y="11169"/>
                </a:cubicBezTo>
                <a:lnTo>
                  <a:pt x="10800" y="21231"/>
                </a:lnTo>
                <a:cubicBezTo>
                  <a:pt x="10800" y="21416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eft Brace 8"/>
          <p:cNvSpPr/>
          <p:nvPr/>
        </p:nvSpPr>
        <p:spPr>
          <a:xfrm>
            <a:off x="4800600" y="2438280"/>
            <a:ext cx="380880" cy="3048120"/>
          </a:xfrm>
          <a:custGeom>
            <a:avLst/>
            <a:gdLst>
              <a:gd name="textAreaLeft" fmla="*/ 243360 w 380880"/>
              <a:gd name="textAreaRight" fmla="*/ 381240 w 380880"/>
              <a:gd name="textAreaTop" fmla="*/ 9720 h 3048120"/>
              <a:gd name="textAreaBottom" fmla="*/ 3038400 h 3048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3"/>
                  <a:pt x="10800" y="225"/>
                </a:cubicBezTo>
                <a:lnTo>
                  <a:pt x="10800" y="10678"/>
                </a:lnTo>
                <a:cubicBezTo>
                  <a:pt x="10800" y="10791"/>
                  <a:pt x="5400" y="10903"/>
                  <a:pt x="0" y="10903"/>
                </a:cubicBezTo>
                <a:cubicBezTo>
                  <a:pt x="5400" y="10903"/>
                  <a:pt x="10800" y="11016"/>
                  <a:pt x="10800" y="11128"/>
                </a:cubicBezTo>
                <a:lnTo>
                  <a:pt x="10800" y="21375"/>
                </a:lnTo>
                <a:cubicBezTo>
                  <a:pt x="10800" y="21488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cyclopedia article (example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llock, George H.  “Elephants.”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Wor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ook Encyclopedia.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92 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gazine article (formula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thor.  “Title of Article.”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ame of Magaz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blication date: Pages of artic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gazine article (example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ith, Rick.  “Whales.” 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ation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Geographic.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ne 1999: 661-665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bsite (formula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thor.  “Article Title.”  Date of Posting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Name of Website.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e of Access.  U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r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8T18:16:19Z</dcterms:created>
  <dc:creator>rcoutras</dc:creator>
  <dc:description/>
  <dc:language>en-US</dc:language>
  <cp:lastModifiedBy>MNPS User</cp:lastModifiedBy>
  <dcterms:modified xsi:type="dcterms:W3CDTF">2011-09-08T17:40:59Z</dcterms:modified>
  <cp:revision>14</cp:revision>
  <dc:subject/>
  <dc:title>Bibliography: How to cite a source</dc:title>
</cp:coreProperties>
</file>